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824-7E0D-4AA1-A0E9-7A4C9DDA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EC6-A2FD-4DC0-A813-D5D002AB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EE7D5-B1E4-4EFF-B392-A7364987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07415-3DB9-49EC-AD25-83370A02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4A121-8506-4BED-B2EA-18A1FBA8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9CDD8-E4A7-42DD-899F-A50163DE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99CE0-198C-43EB-8185-87A67404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198F8-8CBB-4C1C-9C43-0F78246F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380A5-A115-438B-8095-9B045F77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BDB89-F99C-4727-BDAD-28ECD8E9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A0C38-8778-4C4C-A3FB-AD1EB453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982AE-F185-4F45-BE4C-881E6AEC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FDC-5861-4EBC-B9A1-300AE0F5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7519C-A9A1-484A-AADB-ECDF12CF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0A40A-6467-4C76-ADC2-B8F55F3D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0E85E-7AF0-49E3-A390-C22F4B56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B20D9-0B6D-4370-A3DD-233F5549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CCFDF-15CB-4F8A-89FD-D4FD0E07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7E897-9C70-4B51-A583-3A155DAF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9C68D-58D1-403C-A82D-918F2340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54393-A212-4836-9834-E808606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3AAE5-5653-4D58-8E95-B2B95302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DF98D-CD04-4891-A073-3725FD86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578-7F5D-4C9A-986A-F40C9FB3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C8871-AAFB-4DAC-BA12-28D18D81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7629F-20A8-4C85-A15F-ED548684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2C04D-CD65-416A-9758-E932BA28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FAB11-A5F9-4F60-9E3C-9729A277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B19A5-1EA9-46B4-B3E0-80F066DF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19B5B-0649-40CB-B8EA-227ACDCC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E8C6E-2FD2-4405-9334-BC4C468D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53AE3-53DD-400F-8E28-99B36889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A565C-E0E6-42F5-B75F-07F59529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3CBB6-8DD4-4BD3-B139-66DB38B4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38C2-51A7-45EB-B58E-9E303547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6867C-ED54-474F-A521-A1BD2FF6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44418-373D-405F-8A35-4E39DF67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A1427-0784-4F01-A5EA-B14FB114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CB51D-5C14-4670-9423-DB6DB42C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23CBC-755E-46AB-B0C3-7370DB9F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FDA1B-65EF-4173-9A02-D15AF801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75ADC-29C5-4BCE-8870-22753419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F93FD-462E-42B6-B10A-765854C4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D45EE-069F-40ED-B073-8E660AFD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0F239-E6A2-4957-8400-2BF8510D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456E-99A5-4FA7-A171-82ECD247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D9A58-B629-4E3F-83A6-DDF8FA75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7E214-69F7-4C30-B38A-C1A2281A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A958A-AB37-430B-8010-4C5E2FAB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49844-C4D4-4840-A957-DAB94574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E92EB-D6BB-4E71-87A6-D2D341E1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7DD5B-C665-4BF5-95BF-8958233B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38FAD-64FE-45A0-AD3F-2EFAF138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60607-5D65-4DB2-BF93-B563008B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0300B-D56C-4073-A8C0-A4EFF664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184B3-1D4F-4BA6-B2EF-7D9EB09A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24DD-0174-49F7-AF2A-35D240EB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2E366-9B17-49DD-93BF-76190465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E3E0C-FE40-4144-842F-2DC08EF4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E3835-3C05-4E24-9FAC-6F48BCC8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A5771-80CC-4EE2-8AB5-779E50CD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EB35D-E102-4CA5-845E-1A6E4B68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7CE4E-055D-491B-9070-20EE77CE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E5ADE-29A7-4576-BD3B-DDACA07B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16CF5-BC0B-407C-BDFB-1C241DAF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76816-8283-471C-8606-E38A1365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1F6C0-B1EF-409D-A8A0-90AA694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2594-1501-4F51-8C87-801DEFD3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4E2C6-1B13-46D6-9186-8C72E617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6C3D5-A892-4F25-B266-EEF3543F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682E1-F1EF-4D81-B144-89968F2E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9A2E6-9C42-47C8-9D13-3A64A636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571D3-B42D-4A4C-9FAF-78A689B9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5C449-F325-41F8-8E8F-B564B041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CC3FD-F1C4-4E9A-A8A0-37BBF852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7853A-823E-4CC4-B7AB-C7DD98C5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C5CEB-371F-44FE-B8E4-DC36EF1A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38BCF-F598-4CE7-8FBF-DB8FF504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D40A-CD58-4549-9EC4-4216EEFE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E4818-9FF5-4FE3-A2D1-CE79B3C4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919AC7-C330-4C33-81EB-9126BAFC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9F80B-496D-4A1D-82D0-45F0F1D8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DF5DB-11CC-44DA-9DD5-0E2E0384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21727-E98D-45CC-B4F0-9110BC8A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375B1-4314-4C60-A92C-B00E76A7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F04DF-A46C-48E5-BF61-B2F286AF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13BF8-332C-4C6B-91F0-76BC00EC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3B93E-27A6-4C71-8A6D-C7D961D7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449DF5-D90A-44D4-883E-F4137BCD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1158-9ABD-4EA9-9ED8-D972AFB5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8A8DE-3E99-42ED-84B3-72A785EE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F27D9-DC3E-4317-BA21-2B7896B0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BC0FE-EBC4-4779-9698-6E065752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29BC3-344D-4E07-B5C5-F7D34372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7891B-4602-4AA6-8EF4-8D64B302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5E744B-F70A-4684-9B67-7FE91BFB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5C375-42F7-4FA4-A9C1-773ECEA8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FDFC5-81F8-4A83-AD13-C6E8AAD2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F00A9-9B32-4D9C-A9B1-5FABE2DC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A363FC-C525-43EE-ABE5-8378386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F9F7-4C21-4874-9B0D-7B22EC78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8AC02-02CF-4022-9F09-772B6753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645E5-F20F-4DA4-90EB-C5717B37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9C15A-8336-4AC5-916B-F8858A4F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3BA20-9845-4E92-8208-F4852334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C3DE1-C6E7-4F4A-9487-8F5D98AF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4EE5B7-36A9-475D-B3F5-8D6A68B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5B477-393C-4C84-BA81-77309D25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6382BC-5226-4CA8-AF33-BB5E7FA9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63950-0796-4BBB-BCE7-76F00412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1D515A-99AB-4039-AECA-54A1B7D1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9CD-96C0-439B-87EC-C9A21A57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65AD-95D6-4CFB-AF07-E5338FCB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C8FE1-4060-43E4-AA32-C497E8EA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FC93C-61BB-4C36-996A-557E849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C652F0-4A91-41E3-915E-2043472C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6161F-0121-4172-84A0-6D11BB38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A8AA0-2C0B-430F-956E-71A17A97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DD88C-9875-42D2-A8F2-955BDD87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EAEC9B-5C35-45CF-8252-F0EFF216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B49BA-BD8C-4463-91BD-CDE68753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C1E467-5532-49B8-9ECC-4DF2CD56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E4CE33-8EF5-4442-8200-8710AB6A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E618-886A-47B9-B271-D8DEDD62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89B44E-93CF-4DA8-946F-BCF444CA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CA4C07-5843-40C9-BAD3-8A4B94DC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DAA1D-5536-4485-871D-4281AA07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83031-10D0-494D-8BA1-C9FD18B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F1D40-D8DD-48F2-B8EA-704A7454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C561C2-8AA6-44C7-AA7B-B6223185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EB0598-8902-4E09-BFEA-D53B09C6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429C3E-309C-4701-87B3-2B62BD6D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1F55C7-8D4A-4059-9568-BB9B867E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C77254-A636-4993-8722-EA4D81B5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0F03-5A8D-4532-9CC7-905F86CB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8C660-21B1-4487-902D-9AF1D26B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8DF92C-0A6A-4386-9FB5-760D95A0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88CBFC-6E84-41B6-B3D0-54C4EC87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EAAE7-82F3-47A2-96B7-C617151C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8BCF14-BE27-4369-9D62-BDADCE79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83947D-344F-4712-A288-4B6A914C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574DA2-8A60-4615-A3E5-7C0EE84A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7D1A7-672C-4769-AB6E-B815F9FA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72FA3F-97A3-45BE-87A5-AC3FD1CE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75649-3CD3-4493-BBFA-DB2137B2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0B92-0EC0-44A4-B2C9-6658E11F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AEF13-940C-4D05-B8B6-1B7968A4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15D835-151C-4DFD-A293-DF84D787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68901D-6ABE-40E3-A87F-F6FC4EB8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3BEC07-3969-46F0-90D3-6318251E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A30292-D9D3-4F54-AFB0-723A2E72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1F6C68-7340-4C08-8F88-7A4A5459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8E911-B5E3-4007-A857-D07D5D8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87D212-4ECD-41AF-8296-88DED62D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9B455F-9EAF-44D3-BF55-9EC27AF6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9DA2B4-006C-4F57-9F71-B30445FB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4447-5B74-45B7-BE6B-57D99061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150E64-12AD-4C8F-B202-F6E39D61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9BE7B0-F2D0-4EDC-A2FF-F91FF0A6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C3E2C3-5FB1-4928-8438-B2872314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1D298A-7EDC-4703-90DA-37F336A0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E7F3E-FD10-46B4-AC8F-4D2D96EE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485ECE-084B-4946-8BFD-BF5EE044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FF95E4-F22D-4179-8AA0-21335422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B26DC3-F8D6-4831-A6A6-60FC17C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215C4A-7C16-4712-A18C-E00F4BC1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2E4167-9E3E-45B3-A83C-5D6E8A16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3350-0598-46C9-BF0F-6C8F1DFE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635ECD-4D4C-4A7F-A179-FA753C0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65C9C1-B374-4F88-BA68-CD14B364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0C0407-9882-4F30-89D8-6EE04468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1055-EE2C-4D55-A012-52B36ACB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D8AA-5456-491E-A19B-4E14E624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AC9B4-C16F-4F28-A413-C5291C01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9D76-FE4D-42A9-B908-20AAF5E4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FD0-A13F-4D82-B2E3-5E02BE8E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41C1-9A1A-46B3-9542-A5975D3E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7A73A-DFB9-431B-B34F-042C1194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90A2-0455-45D5-A2A0-CAF559FB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401FB-299C-4C61-9C05-6D3A31FF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B2AB0-FC5D-4C01-8B7A-50F56C67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E332-6A11-4202-8BEB-C812D46E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D1A6-3039-4C48-984A-49EEF2FA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2027B-E377-42BC-AA46-E6494459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D752-4EA8-49D1-BEED-6D109F33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03622-489A-433C-BC6D-DC684143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F38-56AD-48BD-B03B-EEC204CB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C8D32-B1B5-4CBE-9A8A-7E5366F6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E104F-1373-4E7C-B529-DFC83C39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A3C7-DA42-4B8F-8005-0792E535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173B1-0D29-43EB-96D4-73122BD4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E9286-1282-4B38-8D1A-8C2C3A09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EF871-6ED6-4430-97F0-4F6C2CC4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8E82-74A4-46D1-9A2D-3C43EC1C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F5546-20AD-4BE2-B3E5-6716A2CF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105B-8666-4CB3-8666-E3C2E70B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ADA1-70B8-468E-A914-B27402E1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60A-3966-445B-A6D8-CED30008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D103-697E-4FC7-8302-1F7457CC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47DB6-07D5-4410-9A33-34611100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553EC-9DB7-4AE7-9A7E-C3AA7B98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2062B-9A54-43B7-B0EC-8187BA96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581A-DF68-4D16-8F13-C01B247C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333A-A1DF-470C-A5CC-FE5DE6D1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9196E-8965-49B3-8125-0C52B593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E78E9-8097-42B6-A7FF-D3C97227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42637-57F3-4413-9573-8BB70D62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FF6CB-9C56-4EFB-B05D-52739F0F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A5C-9F30-4F51-92F8-BA80E9D0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ADC0F-E51B-4B2A-A372-ABE7B9D5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431A8-89A7-4AC0-AF5A-33344043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B20E8-7C29-4A34-8B8F-A7545A61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F6FC-909B-4E13-9601-91EAD598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8347D-F396-4B6A-BC85-153E3465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35EAE-B2DB-4499-8A2E-AB2B870E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5A639-9F0D-4F24-9A5A-BF2EB6DA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BAAD5-A432-4ED1-9F7C-A4A4AA1E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0A93C-FA63-4457-BC38-35AFBA0C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0A193-CD6A-4EDE-9139-239C9E40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A2F-9AE2-4FA8-8B32-D91A164C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0C47D-DCE9-4593-8F15-C63A312A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3F8A1-53A4-4F5F-B721-ABC81A96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80B7B-CAC6-4B6C-BFE5-9EC32A6B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182BC-519F-486D-85EF-AF1039D4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708FD-BC25-42EF-A983-1F0B8C76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26505-3D41-42DF-A11B-DEDBD21A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58E1E-FFDE-4DC1-9E48-E3C752CE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8AA9A-844B-4A35-A8BF-2F2CAC15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3467E-9670-4D19-9F43-8EA76BDB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A2AFF-81C9-428D-B1F5-7EBF3340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59B-A116-4D49-B77E-9AC5C4F3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642F9-7F16-4F41-ABB0-247256BC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1EC95-C379-42D4-8428-7C7134F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7ED69-7882-4808-8364-C2329A20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9BF97-9E94-4B95-8F18-D0659A13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F93ED-73C4-4573-BA30-4884E959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ADF46-2073-469F-A238-5AFB96E0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F248B-63C5-4B32-A566-1DA2784C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92A59-709D-44AE-BF68-04F27F46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58F5F-A466-47E1-9096-17D63674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35FB4-62E1-4191-9548-016A66EF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BC8-911F-4419-9E0F-C0A4098B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E2CB1-8CB8-4F5C-AFDC-F4182B2A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62499-5508-4D0E-ABC5-E2FD1D82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D72F5-87B4-4FBF-BD5E-6B2B2314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DB622-29A9-4E18-BD11-FD849C37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2F4BA-1222-4300-9463-9DF503A7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3AD62-37EF-4688-9FDF-86AF9A9F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CCD90-5CA0-4EEA-A37A-9F632FAF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B0C60-EC5D-4076-A683-4CB196E2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9FA43-D3EF-4729-8C23-1700F933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D4EE2-4D41-4D86-8825-E481DB46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72A4-47AB-49BE-B547-7EC2E18F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2E40-1D85-49D7-B1D6-785DAD9076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A18D-4B27-4188-A8B7-60E970902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EB49-4AA9-46F7-A991-7F495E38A6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9D63-52BC-4EA6-85EA-EADDE5E3D0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2975-76BC-4CF6-AA33-DB6E25861E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23C4-CAC6-4F54-833B-61828BB6ED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5017-F1C7-4B7A-9950-03DD127B4C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CF72-29D5-479C-96EE-6219C53BF1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1A8D-234F-4382-967B-966908AB6D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2D3F-CAA2-4D27-93A6-CE657F2836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BC82-D64E-4BAB-9167-0F34C34718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C2E9-F9A3-46AF-B202-5037ED5B8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56B2-87C4-4FAA-9D51-8A2182648E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A1FB-5EB0-4E7F-9C03-8FB2ACB48F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A26B-A2B9-4F39-A4D9-DD99A1A48C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AA9C-5E10-468B-BAAC-EF6916219E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FD72-226E-47BD-BD44-468AB3C2B9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F145-2DC9-4419-AD5B-BCEC4BDCCC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3631-9B54-4500-9954-4A2208D553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CAA0-9441-4C19-ABE6-2B6E8DE92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3E87-65E7-49C3-867F-97DCCB86F6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DD29-C10E-4AE8-90B8-B01FDC2BD9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4851-220F-48CF-88ED-562949F4F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ED64-5321-4D8F-90F7-51F64BB1D1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2521-3093-4537-A029-60F8F504DA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466F-D6D5-48D0-8416-A256F92116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92BF-2E1C-4D8B-BB86-C3ECF6803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BF39-7774-4C5B-A6F0-048D8570C8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5A3A-7761-41F7-9278-4117BD1CF8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24E9-4380-49F8-9481-137AAA175B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1FAA-75EF-4645-8711-2A2AE7A165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3042-85DF-4235-8302-DF60ED3A88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B676-F180-4B06-A01A-FC34D38739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BB08-413A-4F53-B86B-F215F902A3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57B5-713A-4BB7-8A45-33C24AA156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1045-B8B9-4591-9639-989BAFF079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1054-CE24-4CD0-B80B-BFAD06262A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1349-6E91-4144-B484-8C353F2D8F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5C25-F366-470A-99AD-1E77F1813A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23840" y="3086280"/>
            <a:ext cx="8896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61800" y="1380960"/>
            <a:ext cx="8420400" cy="4096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03280" y="2276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403280" y="350028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332000" y="4724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01520" y="830160"/>
            <a:ext cx="8942400" cy="5484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71640" y="2924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1042920" y="39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1042920" y="537372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333360" y="1262160"/>
            <a:ext cx="8477280" cy="4333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3276720" y="4595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7596360" y="45957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38160" y="1809720"/>
            <a:ext cx="9067680" cy="32385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1042920" y="394812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7:5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